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9871075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871200" cy="68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68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594400" y="-360"/>
            <a:ext cx="42768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222720" y="514080"/>
            <a:ext cx="342576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316160" y="3255840"/>
            <a:ext cx="723888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6509880"/>
            <a:ext cx="42768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594400" y="6509880"/>
            <a:ext cx="42768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8A75-D953-4F75-A9D7-E19054E727FA}" type="slidenum">
              <a:rPr b="0" lang="pl-P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3222720" y="514440"/>
            <a:ext cx="3425760" cy="25700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316160" y="3255840"/>
            <a:ext cx="723888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zpoczynamy instalacj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615-5C96-4C8B-9DDA-747CA995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E33-771C-4BAC-884D-A0AA7C5B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8B2-7793-421F-977C-8A72FFFE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C5B-605C-4DD4-948B-DEBF2DD3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5C7B-8553-438F-B728-DFA7465A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DF6C-7CFE-47A9-8B42-773E8433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1A19-E439-40EA-BFD3-0B4937DC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8E7E-84A1-4355-A863-94B6AC69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90A1-9BBD-44E6-A4F1-50F65330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BA9E-1632-43FA-83EF-083F47C0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D7AB-31A7-4D6E-8156-120E09B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665-E05E-4FED-9F12-84FC61F6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6330-B0DB-41AD-8651-3D87A58A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4A84-7308-478A-8293-EA7F4986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9083-C4E0-4DFB-8F7D-8CA78854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BE0E-0AA0-45E6-A328-D096B5B4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A91B-8C04-4CC4-B215-33DDB22F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28E-4E8D-4DAD-A31E-5FEE06F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49A-E883-4A85-8B13-5D17199B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8FB-EEBF-4238-8FCB-A8134792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507-3EC9-4DB7-807D-321A1592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C0A-A4E7-4363-B271-59496C64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3B4-1308-4414-83F5-C74DB4EB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E55-808C-49D5-BDB8-A5931E1D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3571-BA05-409A-BDDC-28E0B995980B}" type="slidenum">
              <a:rPr b="0" lang="pl-P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1324-367A-4DFA-93EE-800B3772053D}" type="slidenum">
              <a:rPr b="0" lang="pl-P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linux_4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2286000" cy="2590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440" y="15998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333399"/>
                </a:solidFill>
                <a:latin typeface="Georgia"/>
              </a:rPr>
              <a:t>Linux</a:t>
            </a:r>
            <a:br>
              <a:rPr sz="6600"/>
            </a:br>
            <a:r>
              <a:rPr b="1" lang="pl-PL" sz="6600" spc="-1" strike="noStrike">
                <a:solidFill>
                  <a:srgbClr val="333399"/>
                </a:solidFill>
                <a:latin typeface="Georgia"/>
              </a:rPr>
              <a:t> Mandrake 6.1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809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eorgia"/>
              </a:rPr>
              <a:t>instalacja i podstawy konfiguracj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apache" descr=""/>
          <p:cNvPicPr/>
          <p:nvPr/>
        </p:nvPicPr>
        <p:blipFill>
          <a:blip r:embed="rId2"/>
          <a:stretch/>
        </p:blipFill>
        <p:spPr>
          <a:xfrm>
            <a:off x="5638680" y="5867280"/>
            <a:ext cx="2880000" cy="719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280" y="44956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©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Stanisław Rożniatowski, WODIiP Opole, luty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64148_Linux_User" descr=""/>
          <p:cNvPicPr/>
          <p:nvPr/>
        </p:nvPicPr>
        <p:blipFill>
          <a:blip r:embed="rId3"/>
          <a:stretch/>
        </p:blipFill>
        <p:spPr>
          <a:xfrm>
            <a:off x="5638680" y="4952880"/>
            <a:ext cx="288000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Określamy program do partycjonowania twardego dysku : zaznaczam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Disk Druid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Drugie narzędzie - fdisk jest trudniejsz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 obsłudze dla początkującego użytkowni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6partycje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6120" cy="359892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135-DFCC-4278-8D76-B400CCCE7D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43820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Zanim zaczniemy tworzyć nowe partycje i modyfikować ustawienia istniejących, kilka słów o oznaczeniach dysków i partycji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 systemie Linux. Twarde dyski mają oznaczeni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hda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 hdb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i tak dalej /mogą być 4 twarde dyski na 2 kanały IDE/. Oznaczeni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da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db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odnoszą się do dysków SCSI. Stacje dyskietek to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fd0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fd1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... /a:, b: w systemie DOS lub Windows/. Partycje oznaczamy jako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hda1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hda2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...,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hda4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– partycje podstawowe pierwszego dysku IDE,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hda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hda6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to pierwsza i druga partycja logiczna pierwszego dysku IDE. Zwykle na dysku z zainstalowanym systemem Windows istnieje partycja podstawowa, /dev/hda1 /dysk C:/ oraz dodatkowy, logiczny dysk w partycji rozszerzonej/dev/hda5 /dysk D:/.Taki też wpis można dostrzec w programie Disk Druid po jego uruchomieni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 wyświetlonej przez program tabeli otrzymamy przegląd naszego dysku /dysków/ i partycji na nim /nich/ istniejących, ich typów i rozmiarów. Na dole w sekcji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Drive Summarie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widoczne są nasze dyski, podany jest ich rozmiar oraz miejsce wykorzystane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Used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i wolne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Fre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. Na górze w sekcji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Current Disk Partitions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rzedstawione są istniejące partycje na bieżącym dysku, ich rozmiar i ty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la systemu Linux musimy utworzyć co najmniej 2 partycje : jedna, tzw. dysk wymiany to partycja typu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nux Swap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druga – na której zainstalujemy właściwy system powinna być typu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nux Nativ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Partycja wymiany powinna posiadać wielkość co najmniej równą pamięci RAM w naszym komputerze. Na właściwy system – jeśli instalujemy wszystkie pakiety systemu Linux powinniśmy przeznaczyć co najmniej 1.4 GB przestrzeni na dysku. Oczywiście pamiętać należy o miejscu na dodatkowe programy przez nas instalowane ... tak więc proponuje się przeznaczyć na tę partycję 1.6-1.9 GB. Program Disk Druid może za naszym pozwoleniem, automatycznie zwiększyć rozmiar partycji – tak, by wykorzystać całą wolną przestrzeń na dysku /opcj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row to fill disk.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238-1B6B-4626-BAA0-0B7A8F3633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43820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7druid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74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4018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Istniejące na naszych dyskach partycje /np.. z systemem Windows/ mogą być w naszym systemie Linux również dostępne – wymaga to ich wcześniejszego „zamontowania”. Linux nie przypisuje dyskom oznaczeń literowych, nasza montowana partycja Windows powinna być dostępna jako „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mnt/window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”, natomiast główna partycja Linux Native jako „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linux_4" descr=""/>
          <p:cNvPicPr/>
          <p:nvPr/>
        </p:nvPicPr>
        <p:blipFill>
          <a:blip r:embed="rId2"/>
          <a:stretch/>
        </p:blipFill>
        <p:spPr>
          <a:xfrm>
            <a:off x="1828800" y="5410080"/>
            <a:ext cx="604800" cy="7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776-5F5F-40CC-85C9-FDF9CBAE47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odajemy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Add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nową partycję i nadajemy jej  typ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nux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wap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oraz pojemność np..  64 MB, następnie dodajemy partycję typu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 Linux Nativ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/wielkość 1.8 GB/, rozszerzalną /zaznaczamy pole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row ...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- z punktem montowania - „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”, a także montujemy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dit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partycję z systemem Windows, jeśli posiadamy ją na dysku /pod nazwę „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mnt/window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”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8edytpartycje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179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F2F-0430-453B-97E3-59815101C1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 zapisaniu nowych ustawień partycji pora na uaktywnienie partycji wymiany. Możemy zaznaczyć opc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Check for bad ...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Nasz dysk zostanie sprawdzony i wykryte, uszkodzone sektory oznaczone – system będzie dzięki temu bezpieczniejsz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10initswap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186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B58-042D-49E4-8C89-52090479A6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438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Następny krok instalacji to formatowanie partycji typu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nux Nativ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– postępujemy podobnie jak dla partycji Sw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11formatparycji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193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5B5-B86B-4284-A207-67292F128E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rzed nami wybór komponentów systemu. Instalujemy kompletny system wraz z dodatkami. Przewijamy listę komponentów na dół i zaznaczamy opc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verything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czyli wszystkie pakiety  systemu. W każdej chwili można je zdeinstalować, jeśli zabierają zbyt dużo miejsca lub nie są wykorzystywan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12selekcjakomponentow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00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52F-07C1-444E-9E58-6DCD858D32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43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Może się zdarzyć, ze wyświetlony będzie komunikat o brakujących bibliotekach systemowych potrzebnych do prawidłowej instalacji pakietów lub programów – Zainstalujmy je, zaznaczając pole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Instaluj pakiety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15zaleznosci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07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8FA-F7C8-4933-AD6C-95FCCAFF80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143820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 wyświetleniu okienka z komunikatem o raporcie dostępnym po instalacji w pliku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tmp/install.log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następuje proces kopiowania pakietów na dysk twardy i ich wstępna, automatyczna konfiguracja. W zależności od sprzętu może to potrwać od 20 do 40 minut. Instalator tworzy na naszej partycji system plików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xt2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– inny niż różne wersje FAT-a z Windows 9X lub NTFS-a Windows NT. Cały czas możemy na ekranie obserwować „postęp” całego proce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ełna instalacja wersji 6.1 Linux Mandrake zawiera 827 pakietów i wymaga 1275 MB pamięci na dy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alsza część instalacji wymaga od nas uwagi i odpowiedzi na szereg pytań dotyczących naszego sprzę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Możemy się w tej chwili zastanowić czy konfigurować będziemy ustawienia sieciowe systemu /potrzebne będą dane o naszej sieci lokalnej/, czy będziemy korzystali z drukarki /jej typ i właściwości/, modemu /typ, prędkość, port szeregowy/, czy będziemy pracowali również w trybie graficznym X-Window systemu Linux /typ karty graficznej, pamięć, rozdzielczość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591-1B3E-4D7E-B02D-2FBDFE6173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Została wykryta myszka w naszym systemie. Porty szeregowe COM1 i COM2 znane z Windows i DOS-a tutaj mają oznaczeni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ttyS0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oraz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ttyS1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9" name="17portmyszy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20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765-2936-4DC1-BB51-73B57E9F31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38200"/>
            <a:ext cx="914400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Założenia instalacyjn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komputer klasy Pentium lub wyższe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co najmniej 32 MB pamięci RA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1.6 GB na dysku /wolne miejsce lub pusta partycja/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typowa karta graficzn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typowa karta muzyczn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modem wewnętrzny lub zewnętrzny /do połączenia z Internetem/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napęd CD RO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mysz szeregowa lub PS/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łyta instalacyjna Linux Mandrake 6.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yskietka 3.5 – 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A41-6F06-4CC7-A507-9578603459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143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opracujmy dla naszej myszki „szczegóły” – zaznaczmy opcję myszki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eneric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3 przyciskowej jeśli taką posiadamy lub zezwólmy na emulację trzeciego przycisku przez równoczesne naciśnięcie obydwu przycisków naszej mysz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6" name="16myszwykryt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27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4B5-9EBA-4F5C-BC68-CFEC84E1EA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438200"/>
            <a:ext cx="9144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ecydujemy, czy konfigurować będziemy nasz komputer do pracy w sieci lokalnej /wtedy musi posiadać kartę sieciową/. Jeśli nie chcemy sieci opuszczamy ten proces i przenosimy się na slajd </a:t>
            </a:r>
            <a:r>
              <a:rPr b="0" lang="pl-PL" sz="1600" spc="-1" strike="noStrike" u="sng">
                <a:solidFill>
                  <a:srgbClr val="ff0000"/>
                </a:solidFill>
                <a:uFillTx/>
                <a:latin typeface="Georgia"/>
                <a:hlinkClick r:id="rId1" action="ppaction://hlinksldjump"/>
              </a:rPr>
              <a:t>26</a:t>
            </a:r>
            <a:r>
              <a:rPr b="0" lang="pl-PL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3" name="18czylonfigsiec" descr=""/>
          <p:cNvPicPr/>
          <p:nvPr/>
        </p:nvPicPr>
        <p:blipFill>
          <a:blip r:embed="rId2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34" name="linux_4" descr=""/>
          <p:cNvPicPr/>
          <p:nvPr/>
        </p:nvPicPr>
        <p:blipFill>
          <a:blip r:embed="rId3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B25-6AED-4ED6-8640-D0408147AF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Informujemy system w jaki sposób pobierany będzie adres IP naszego komputera. Opcj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BOOTP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wymaga specjalnej karty sieciowej z pamięcią, metod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DHCP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biera adres z serwera DHCP w naszej sieci lokalnej. Pełną kontrolę zachowujemy wybierając opc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pecify IP adress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i tak też zrobi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19skadipwziac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41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BFD-79CC-4DEF-B3FA-35F597DAB7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pisujemy dane, które otrzymaliśmy od administratora sieci lokalnej. Możemy też eksperymentować w domu sami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Adress IP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192.168.1.1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Netmask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255.255.255.0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Gateway : brak, Primary nameserver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194.204.159.1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/TP S.A./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7" name="20wpisyadresow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48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F81-74C7-46A5-8D47-2D30980EE1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Ustawiamy naszą domenę, nazwę naszego komputera w domenie i istniejące, dodatkowe „nameservery” tłumaczące adresy IP na domenowe, łatwiejsze do zapamiętania. Np.. Domain name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im7.opole.pl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Host name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nux.gim7.opole.pl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pola dodatkowych „nameserverów” zostawić można pu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21wpisynazwserwer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55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D3D-C666-44FF-A611-F7599B1860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1438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ybieramy strefę czasową w której przebywamy : jest oczywiście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1" name="22strefaczasow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62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3C5-CF31-49A1-8E2B-033C0FF74A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1438200"/>
            <a:ext cx="91440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Nasz komputer działać będzie jako serwer, więc zdecydować możemy, które serwisy będą automatycznie uruchamiane podczas startu systemu. Na początek nie ma potrzeby ingerować w te ustawienia. Kolejny ekran zapyta nas czy chcemy instalować drukarkę – jeśli nie to przechodzimy do slajdu </a:t>
            </a:r>
            <a:r>
              <a:rPr b="0" lang="pl-PL" sz="1600" spc="-1" strike="noStrike" u="sng">
                <a:solidFill>
                  <a:srgbClr val="ff0000"/>
                </a:solidFill>
                <a:uFillTx/>
                <a:latin typeface="Georgia"/>
                <a:hlinkClick r:id="rId1" action="ppaction://hlinksldjump"/>
              </a:rPr>
              <a:t>30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8" name="23serwisystartowe" descr=""/>
          <p:cNvPicPr/>
          <p:nvPr/>
        </p:nvPicPr>
        <p:blipFill>
          <a:blip r:embed="rId2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69" name="linux_4" descr=""/>
          <p:cNvPicPr/>
          <p:nvPr/>
        </p:nvPicPr>
        <p:blipFill>
          <a:blip r:embed="rId3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5E3-C560-4152-9B05-DED1E70303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Zdecydujmy czy instalować drukark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okalną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czy też  zdalną podłączoną do komputera z systemem Linux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Remote lpd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, Windows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MB,Windows95,NT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lub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etWar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? Instalujemy drukarkę lokalnie przyłączoną do naszego komput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5" name="24drukark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76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FD4-D522-446D-9919-7FA0E4FE77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438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twierdzamy opcje druku, port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lp</a:t>
            </a:r>
            <a:r>
              <a:rPr b="1" lang="pl-PL" sz="16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w DOS-ie LPT1/, wybieramy moel drukarki i ustawiamy jej właściw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25drukarka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733920" cy="2210040"/>
          </a:xfrm>
          <a:prstGeom prst="rect">
            <a:avLst/>
          </a:prstGeom>
          <a:ln w="0">
            <a:noFill/>
          </a:ln>
        </p:spPr>
      </p:pic>
      <p:pic>
        <p:nvPicPr>
          <p:cNvPr id="283" name="26drukarka3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733920" cy="2224080"/>
          </a:xfrm>
          <a:prstGeom prst="rect">
            <a:avLst/>
          </a:prstGeom>
          <a:ln w="0">
            <a:noFill/>
          </a:ln>
        </p:spPr>
      </p:pic>
      <p:pic>
        <p:nvPicPr>
          <p:cNvPr id="284" name="27drukarkatyp" descr=""/>
          <p:cNvPicPr/>
          <p:nvPr/>
        </p:nvPicPr>
        <p:blipFill>
          <a:blip r:embed="rId3"/>
          <a:stretch/>
        </p:blipFill>
        <p:spPr>
          <a:xfrm>
            <a:off x="380880" y="4114800"/>
            <a:ext cx="3733920" cy="2444760"/>
          </a:xfrm>
          <a:prstGeom prst="rect">
            <a:avLst/>
          </a:prstGeom>
          <a:ln w="0">
            <a:noFill/>
          </a:ln>
        </p:spPr>
      </p:pic>
      <p:pic>
        <p:nvPicPr>
          <p:cNvPr id="285" name="28drukarkaustawienia" descr=""/>
          <p:cNvPicPr/>
          <p:nvPr/>
        </p:nvPicPr>
        <p:blipFill>
          <a:blip r:embed="rId4"/>
          <a:stretch/>
        </p:blipFill>
        <p:spPr>
          <a:xfrm>
            <a:off x="4572000" y="4114800"/>
            <a:ext cx="3757680" cy="2459160"/>
          </a:xfrm>
          <a:prstGeom prst="rect">
            <a:avLst/>
          </a:prstGeom>
          <a:ln w="0">
            <a:noFill/>
          </a:ln>
        </p:spPr>
      </p:pic>
      <p:pic>
        <p:nvPicPr>
          <p:cNvPr id="286" name="linux_4" descr=""/>
          <p:cNvPicPr/>
          <p:nvPr/>
        </p:nvPicPr>
        <p:blipFill>
          <a:blip r:embed="rId5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2D8-F409-4E21-8659-61B92AC80D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43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Sprawdzamy ustawione przed chwilą parametry drukarki i potwierdzamy lub cofamy się na początek procesu konfigurowania drukarek - jeśli chcemy coś zmienić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2" name="29drukarkaweryfikacj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93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38F-1490-43BD-977E-DA6718E685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438200"/>
            <a:ext cx="914400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Rozpoczynamy instalację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6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Jeśli nasz BIOS obsługuje start z dysku CD ROM, ustawiamy odpowiednią opcję w BIOS-ie, wkładamy dysk instalacyjny Linux Mandrake 6.1 do napędu CD ROM i uruchamiamy k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6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6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rzygotowujemy 3.5 calową dyskietkę instalacyjną, wkładamy ją do startowego napędu dyskietek i uruchamiamy k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52680"/>
            <a:ext cx="914400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rzygotowanie dyskietki instalacyjnej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W komputerze z działającym systemem DOS lub Windows włóż płytę instalacyjną Linux’a do napędu CD-ROM,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z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mień bieżący dysk na napęd zawierający powyższą płytę,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w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łóż czystą, sformatowaną dyskietkę 3,5 - calową do napędu dyskietek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p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rzejdź do katalogu DOSUTILS i uruchom program RAWRITE,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wprowadź nazwę pliku wraz ze ścieżką dostępu X:\IMAGES\BOOT.IMG,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w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prowadź literę, pod którą widoczny jest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Twój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napęd dyskietek,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naciśnij &lt;ENTER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X:\&gt;cd DOSUTILS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&lt;ENTER&gt;</a:t>
            </a:r>
            <a:br>
              <a:rPr sz="1200"/>
            </a:b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X:\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&gt;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DOSUTILS&gt;RAWRITE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&lt;ENTER&gt;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1200"/>
            </a:b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Enter the disk image source filename: X:\IMAGES\BOOT.IMG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&lt;ENTER&gt;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1200"/>
            </a:b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Enter target diskette drive: A: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&lt;ENTER&gt;</a:t>
            </a:r>
            <a:br>
              <a:rPr sz="1200"/>
            </a:b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Please insert … into drive A: and press -ENTER- : &lt;EN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pl-PL" sz="1200" spc="-1" strike="noStrike">
                <a:solidFill>
                  <a:srgbClr val="000000"/>
                </a:solidFill>
                <a:latin typeface="Georgia"/>
              </a:rPr>
              <a:t>X:</a:t>
            </a:r>
            <a:r>
              <a:rPr b="0" i="1" lang="pl-PL" sz="1200" spc="-1" strike="noStrike">
                <a:solidFill>
                  <a:srgbClr val="000000"/>
                </a:solidFill>
                <a:latin typeface="Georgia"/>
              </a:rPr>
              <a:t> - oznacza Twój napęd CD ROM,</a:t>
            </a:r>
            <a:br>
              <a:rPr sz="1200"/>
            </a:br>
            <a:r>
              <a:rPr b="1" i="1" lang="pl-PL" sz="1200" spc="-1" strike="noStrike">
                <a:solidFill>
                  <a:srgbClr val="000000"/>
                </a:solidFill>
                <a:latin typeface="Georgia"/>
              </a:rPr>
              <a:t>A:</a:t>
            </a:r>
            <a:r>
              <a:rPr b="0" i="1" lang="pl-PL" sz="1200" spc="-1" strike="noStrike">
                <a:solidFill>
                  <a:srgbClr val="000000"/>
                </a:solidFill>
                <a:latin typeface="Georgia"/>
              </a:rPr>
              <a:t> - to Twoja startowa stacja dysk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65B-46DA-4FC2-B30E-7A67DC02D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rzyszła pora na wprowadzenie i potwierdzenie hasła najważniejszego użytkownika systemu – „root’a”. To osoba z prawami dostępu największymi w całej sieci. Jest ona zwykle nazywana - administrator sieci. Może wszystko zepsuć w odróżnieniu od „szarego” użytkownika”. Tego hasła nie możesz zapomnieć ... ;-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9" name="30hasloroot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300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247-4B38-4FD8-AF51-5570BBC8D6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4382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Konta administratora systemu = „root” nie powininno używać się do „normalnej” pracy w systemie. Jest to podyktowane względami bezpieczeństwa /szczególnie wtedy, gdy Twój komputer podłączony jest na stałe do Internetu/, a także możliwością całkowitego „zepsucia” systemu – szczególnie ważne w trakcie nauki posługiwania się nowym systemem operacyjnym. Instalator zaproponuje Ci założenie „zwykłego”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konta użytkownika systemu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Podajesz identyfikator konta, opis użytkownika /możesz stosować polskie litery – kombinacja klawisz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rawy Alt + litera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i to już wszystko ... będziesz mógł zalogować się w systemie używając „bezpiecznego” konta. W każdej chwili możesz skorzystać z konta „root’a” – wystarczy rozkaz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u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i podanie hasła administratora systemu, które sam wprowadziłeś wcześnie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6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EE4-21DA-4D56-B27B-C51432C956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Konfigurujemy sposób sprawdzania tożsamości użytkowników. Odznaczamy opc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nable NI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zaznaczamy natomiast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Use Shadow Password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oraz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nable MD5 Password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W przypadku pracy w sieci lokalnej lub Internecie da nam to pewną ochronę przed „włamaniem” na konta użytkow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2" name="31autentyfikacj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313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B58-4A71-4FF7-AFE0-BE47F776D4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4382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Tworzymy dyskietkę startową dla naszego systemu. Wkładamy czystą dyskietkę 3.5 calową do napędu i naciskam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Pozwoli to na uruchamianie Linux-a tylko wtedy, kiedy dyskietka ta znajdować się będzie w napędzie po włączeniu komputera – w przeciwnym razie uruchomiony zostanie system Windows lub inny /jeśli jest na dysku zainstalowany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9" name="32czydyskstartowy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320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9B9-2848-4364-95D6-F09FAC69C8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14382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skazujemy miejsce w którym zostanie zainstalowany „bootloader” /tzw.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LO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systemu. Proponuję wybrać opc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ierwszy sektor partycji bootującej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– wybranie opcji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Master boot record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spowoduje pojawianie się przy każdorazowym uruchamianiu komputera „bootloadera” pozwalającego wybrać jeden z dostępnych na dyskach systemów operacyjnych /my mamy dyskietkę startową systemu Linux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6" name="33gdzielilo" descr=""/>
          <p:cNvPicPr/>
          <p:nvPr/>
        </p:nvPicPr>
        <p:blipFill>
          <a:blip r:embed="rId1"/>
          <a:stretch/>
        </p:blipFill>
        <p:spPr>
          <a:xfrm>
            <a:off x="2158920" y="233856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327" name="linux_4" descr=""/>
          <p:cNvPicPr/>
          <p:nvPr/>
        </p:nvPicPr>
        <p:blipFill>
          <a:blip r:embed="rId2"/>
          <a:stretch/>
        </p:blipFill>
        <p:spPr>
          <a:xfrm>
            <a:off x="1828800" y="548640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D92-6340-4DB9-89AA-B12960A8C0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14382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Kolejne ekrany pozwalają dodać specjalne opcje przy starcie systemu – nie ma takiej potrzeby oraz zdecydować, któr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z systemów na naszym dysku ma być uruchamiany domyślnie /dla tych, którzy zainstalowali LILO w „Master boot” sektorze/. Przyjmujemy domyślne ustawienia potwierdzając je przyciskiem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3" name="34specjalneopcje" descr=""/>
          <p:cNvPicPr/>
          <p:nvPr/>
        </p:nvPicPr>
        <p:blipFill>
          <a:blip r:embed="rId1"/>
          <a:stretch/>
        </p:blipFill>
        <p:spPr>
          <a:xfrm>
            <a:off x="719280" y="2158920"/>
            <a:ext cx="3297240" cy="2158920"/>
          </a:xfrm>
          <a:prstGeom prst="rect">
            <a:avLst/>
          </a:prstGeom>
          <a:ln w="0">
            <a:noFill/>
          </a:ln>
        </p:spPr>
      </p:pic>
      <p:pic>
        <p:nvPicPr>
          <p:cNvPr id="334" name="35ktorastartowapartycja" descr=""/>
          <p:cNvPicPr/>
          <p:nvPr/>
        </p:nvPicPr>
        <p:blipFill>
          <a:blip r:embed="rId2"/>
          <a:stretch/>
        </p:blipFill>
        <p:spPr>
          <a:xfrm>
            <a:off x="4678200" y="2158920"/>
            <a:ext cx="3297240" cy="21589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46483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Teraz nastąpi część instalacji pozwalająca używać systemy graficznego X-Window. Jeśli posiadamy nietypową kartę graficzną może to być zadanie niewykonalne w prosty sposób /bez instalowania specjalnych sterowników w już zainstalowanym systemie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linux_4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BFA-B37A-4009-A328-0F5B3075CE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1438200"/>
            <a:ext cx="9144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winna zostać wykryta używana przez nas karta graficzna oraz ilość zainstalowanej na niej pamięci. Na ekranie pokaże się odpowiedni komunikat. Jeśli tak się stało – instalowany jest odpowiedni server X-Window – jeśli nie musimy wybrać naszą kartę z dostępnej listy /nie zawsze przyniesie to skutek pozytywny/. Następnie zaznaczamy na wyświetlonej liście swój model monitora – jeśli nie ma go na liście proponuję wybrać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eneric Multisync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dla nowszych typów/, lub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eneric Monitor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dla starszych. W kolejnym kroku nastąpi próbne uruchomienie trybu graficznego /uruchamiamy go przez naciśnięcie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rob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. Jeśli wystąpi błąd określamy ilość pamięci naszej karty graficznej. Powinniśmy określić układ zegarowy kart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Clockchip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- tutaj najlepiej jest zostawić domyślną odpowiedź –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o clockchip setting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Określamy następnie tryby graficzne w których ma pracować nasz monitor /jeśli wybierzemy kilka to przełączenie między nimi odbywa się sekwencyjnie po naciśnięciu kombinacji klawisz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Ctrl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hift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+ klawisz „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+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” w części numerycznej klawiatury/. Po pomyślnym zakończeniu testu konfiguracji odpowiadamy na pytanie dotyczące poprawności wyświetlanego obrazu kontrolnego. Jeśli nie był on poprawny to rozpoczynamy całą procedurę od początku – jeśli był poprawny to na pytanie – Czy po starcie wyświetlić obraz w trybie graficznym  ? Odpowiadamy zgodnie z naszą intencją – proponu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i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Zawsze mamy możliwość jego uruchomienia przez wydanie rozkazu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tartx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Na ekranie pojawiają słowa gratulacyjne – należą nam się – przecież zainstalowaliśmy i wstępnie skonfigurowaliśmy system Linux na naszym dysku ... ;-)). Następuje restart systemu i jeśli pozostawiliśmy dyskietkę startową systemu Linux w napędzie następuje jego uruchomienie ... i to już wszystko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2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192-4B0F-45AD-8182-B8080FC827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14382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333399"/>
                </a:solidFill>
                <a:latin typeface="Georgia"/>
              </a:rPr>
              <a:t>ŻYCZ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333399"/>
                </a:solidFill>
                <a:latin typeface="Georgia"/>
              </a:rPr>
              <a:t>POWODZE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6858000" y="38088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firstslide"/>
          </p:cNvPr>
          <p:cNvSpPr/>
          <p:nvPr/>
        </p:nvSpPr>
        <p:spPr>
          <a:xfrm>
            <a:off x="7924680" y="38088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2335" y="3837"/>
                </a:moveTo>
                <a:lnTo>
                  <a:pt x="34912" y="6448"/>
                </a:lnTo>
                <a:lnTo>
                  <a:pt x="34912" y="4707"/>
                </a:lnTo>
                <a:lnTo>
                  <a:pt x="36687" y="4707"/>
                </a:lnTo>
                <a:lnTo>
                  <a:pt x="36687" y="8224"/>
                </a:lnTo>
                <a:lnTo>
                  <a:pt x="39298" y="10800"/>
                </a:lnTo>
                <a:lnTo>
                  <a:pt x="37645" y="10800"/>
                </a:lnTo>
                <a:lnTo>
                  <a:pt x="37645" y="17989"/>
                </a:lnTo>
                <a:lnTo>
                  <a:pt x="27026" y="17989"/>
                </a:lnTo>
                <a:lnTo>
                  <a:pt x="27026" y="10800"/>
                </a:lnTo>
                <a:lnTo>
                  <a:pt x="25372" y="10800"/>
                </a:lnTo>
                <a:close/>
              </a:path>
              <a:path fill="darkenLess" w="64671" h="21600">
                <a:moveTo>
                  <a:pt x="34912" y="6448"/>
                </a:moveTo>
                <a:lnTo>
                  <a:pt x="34912" y="4707"/>
                </a:lnTo>
                <a:lnTo>
                  <a:pt x="36687" y="4707"/>
                </a:lnTo>
                <a:lnTo>
                  <a:pt x="36687" y="8224"/>
                </a:lnTo>
                <a:close/>
              </a:path>
              <a:path fill="darkenLess" w="64671" h="21600">
                <a:moveTo>
                  <a:pt x="31413" y="14299"/>
                </a:moveTo>
                <a:lnTo>
                  <a:pt x="33258" y="14299"/>
                </a:lnTo>
                <a:lnTo>
                  <a:pt x="33258" y="17989"/>
                </a:lnTo>
                <a:lnTo>
                  <a:pt x="37645" y="17989"/>
                </a:lnTo>
                <a:lnTo>
                  <a:pt x="37645" y="10800"/>
                </a:lnTo>
                <a:lnTo>
                  <a:pt x="27026" y="10800"/>
                </a:lnTo>
                <a:lnTo>
                  <a:pt x="27026" y="17989"/>
                </a:lnTo>
                <a:lnTo>
                  <a:pt x="31413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02560" y="459900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©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Stanisław Rożniatowski, WODIiP Opole, luty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164148_Linux_User" descr=""/>
          <p:cNvPicPr/>
          <p:nvPr/>
        </p:nvPicPr>
        <p:blipFill>
          <a:blip r:embed="rId1"/>
          <a:stretch/>
        </p:blipFill>
        <p:spPr>
          <a:xfrm>
            <a:off x="5562720" y="5029200"/>
            <a:ext cx="2879640" cy="719280"/>
          </a:xfrm>
          <a:prstGeom prst="rect">
            <a:avLst/>
          </a:prstGeom>
          <a:ln w="0">
            <a:noFill/>
          </a:ln>
        </p:spPr>
      </p:pic>
      <p:pic>
        <p:nvPicPr>
          <p:cNvPr id="348" name="linux_4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2286000" cy="259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279-D9E7-4B4E-8C0E-3A2A3B13CB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38200"/>
            <a:ext cx="91440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 uruchomieniu programu instalacyjnego z dysku CD ROM lub dyskietki na ekranie pojawia się strona startowa systemu Linux, dająca nam do wyboru dwa tryby instalacji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orma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xp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la zdecydowanej większości użytkowników odpowiednim trybem instalacji jest tryb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ormalny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By rozpocząć w nim dalszą część instalacji naciskam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&lt;ENTER&gt;.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Uruchamiane jest w tej chwili jądro Linux-a i rozpakowywane w pamięci RAM komputera. Przy „okazji” rozpoznawane są urządzenia w które wyposażony jest nasz komputer /procesor, dyski twarde, stacje dysków, ilość pamięci RAM, karta sieciowa, interfejsy szeregowe i równoległe, ... i.t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1784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Welcome to Linux-Mandrake 6.1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FE9-6A20-4C2D-BAC3-33FCDC55E2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1jezyk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7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 uruchomieniu i rozpakowaniu jądra systemu  następuje dalszy ciąg instalacji w trybie „pseudograficznym”. Wybieramy język w którym odbywać się będzie instalacja 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olish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od tej chwili będzie on „dominującym” podczas instal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9B2-3754-443A-93B3-F72B377AC2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Określamy  typ używanej klawiatury – zaznaczamy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l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umożliwi to zainstalowanie sterownika polskiej klawiatur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 standardzie programisty /prawy Alt + litera/ dla tekstowego trybu pracy syste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2klawiatur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9360" cy="360036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44C-BA38-4822-A546-67B7BC131C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Określamy metodę instalacji - z jakiego dysku instalujemy system – zaznaczamy : 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ocal CD ROM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krążek instalacyjny powinien znajdować się w napędzie. Nastąpi próba jego rozpoznania i przejdziemy do następnej fazy insalacji syste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3zcdromu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9360" cy="360036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ADB-942D-4F9E-98BB-4D731A75AC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438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ecydujemy się na instalację -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Install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systemu, a nie unowocześnienie już istniejącego – Up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4install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936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A08-BE88-4CFC-B338-EC30444966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3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ecydujemy jaki rodzaj instalacji będzie dokonany :  stacja robocza, serwer lub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ormalny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Zaznaczamy ostatni z nich. Na kolejnym ekranie odpowiadamy, czy posiadamy urządzenia SCSI w naszym komputerze – zaznaczam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i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5rodzajinstl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9360" cy="36003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598-05E9-438B-B7CE-C7DCAABAED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22:49:26Z</dcterms:created>
  <dc:creator>Stanisław Rożniatowski</dc:creator>
  <dc:description/>
  <dc:language>en-US</dc:language>
  <cp:lastModifiedBy>Stanisław Rożniatowski</cp:lastModifiedBy>
  <dcterms:modified xsi:type="dcterms:W3CDTF">2000-02-20T21:04:17Z</dcterms:modified>
  <cp:revision>33</cp:revision>
  <dc:subject/>
  <dc:title>Instalacja systemu Linux Mandrake 6.1</dc:title>
</cp:coreProperties>
</file>